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30C57-2D6A-401C-8AA3-A74D1527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11E83-103E-4A0F-A637-10B8D873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E5E31-E181-40A7-8E36-248487BF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76CC7-5AC2-4CE1-AFFB-5994C2B6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6064-DC19-4DCF-A8FE-CF8914B0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770F-93F8-42D3-B128-B5C276B8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6475-33EC-495A-8125-A06F2F80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AECF-68FD-47E9-864C-D05C2319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32A8-E348-4E3C-AD1D-5A2C4533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83F9-6D3C-4538-B31D-97BF656B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7DE3-95E6-45C8-A8D1-9F2540F1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ECCD-0D90-4F07-A465-A0EB1AB5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6CB3-42AB-42A0-AE27-AAABA66C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5B19-6C6D-4EFF-B990-D8E094B1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49A6-BBD5-43A7-B986-3337E0A7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71B7-DBBD-4347-B33A-D509D0C2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3E2E-ABBF-4E1B-A7C9-28A47C6F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FB1CC-214F-458B-9FB5-850543F0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BAE8-57CA-4E48-A87A-9DC4C23D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D125E-4FC5-4B74-AB81-4E73D1A2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06FCC-C34E-4B9E-8105-7CF1D9AA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95B59-82A4-4A40-9638-500E44F3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4FC68-A38D-4DCB-83B6-CA02F663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624D-089E-4B49-8CA1-D05B215E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B8D2-97BA-4C81-81EB-75FF7FE57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B2F0-8413-498B-BCFA-25AB5D1F4D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apereira@usp.br" TargetMode="External"/><Relationship Id="rId2" Type="http://schemas.openxmlformats.org/officeDocument/2006/relationships/hyperlink" Target="mailto:pereirace@uol.com.br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scolha Social, Estratégia e Racionalidad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ma Introdução à Teoria dos Jogos na Polít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fessor: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arlos Pereir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apereira@usp.b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pereirace@uol.com.b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mplos de Jogos Estratégic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tipo de saque (tênis) será mais apropriado, com efeito ou forç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mais importante não é saber como deveria sacar, mas como não deveria. Ou seja, não se deveria sacar sempre da mesma for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adinha das notas da p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ema do prision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pude fazer o exame porque o pneu fur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 foi o pne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posso adiar a prova porque as regras não perm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omissos críve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m vai ao supermerc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m tiver a menor tolerância perde o jogo (jogo da galinha). Um jogo que exacerba o risco mútuo até alguém abri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orar em casas separadas ou se cas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sinais estão sendo enviados com a minha decisã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72560" y="1471680"/>
            <a:ext cx="588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 Principal-Ag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46200" y="476640"/>
            <a:ext cx="5267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tores no Processo Regu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90920" y="692640"/>
            <a:ext cx="5267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tores no Processo Regu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26280" y="31258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as e Invest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3429000"/>
            <a:ext cx="1144440" cy="1440"/>
          </a:xfrm>
          <a:custGeom>
            <a:avLst/>
            <a:gdLst/>
            <a:ahLst/>
            <a:rect l="l" t="t" r="r" b="b"/>
            <a:pathLst>
              <a:path w="721" h="1">
                <a:moveTo>
                  <a:pt x="0" y="0"/>
                </a:move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690920" y="476640"/>
            <a:ext cx="5267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tores no Processo Regu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26280" y="31258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as e Invest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3429000"/>
            <a:ext cx="1144440" cy="1440"/>
          </a:xfrm>
          <a:custGeom>
            <a:avLst/>
            <a:gdLst/>
            <a:ahLst/>
            <a:rect l="l" t="t" r="r" b="b"/>
            <a:pathLst>
              <a:path w="721" h="1">
                <a:moveTo>
                  <a:pt x="0" y="0"/>
                </a:move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62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3809880"/>
            <a:ext cx="1144440" cy="1297080"/>
          </a:xfrm>
          <a:custGeom>
            <a:avLst/>
            <a:gdLst/>
            <a:ahLst/>
            <a:rect l="l" t="t" r="r" b="b"/>
            <a:pathLst>
              <a:path w="721" h="817">
                <a:moveTo>
                  <a:pt x="0" y="0"/>
                </a:moveTo>
                <a:lnTo>
                  <a:pt x="720" y="8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90920" y="549720"/>
            <a:ext cx="5267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tores no Processo Regu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6280" y="31258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as e Invest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3429000"/>
            <a:ext cx="1144440" cy="1440"/>
          </a:xfrm>
          <a:custGeom>
            <a:avLst/>
            <a:gdLst/>
            <a:ahLst/>
            <a:rect l="l" t="t" r="r" b="b"/>
            <a:pathLst>
              <a:path w="721" h="1">
                <a:moveTo>
                  <a:pt x="0" y="0"/>
                </a:move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262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816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3809880"/>
            <a:ext cx="1144440" cy="1297080"/>
          </a:xfrm>
          <a:custGeom>
            <a:avLst/>
            <a:gdLst/>
            <a:ahLst/>
            <a:rect l="l" t="t" r="r" b="b"/>
            <a:pathLst>
              <a:path w="721" h="817">
                <a:moveTo>
                  <a:pt x="0" y="0"/>
                </a:moveTo>
                <a:lnTo>
                  <a:pt x="720" y="8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3429000"/>
            <a:ext cx="1068480" cy="1440"/>
          </a:xfrm>
          <a:custGeom>
            <a:avLst/>
            <a:gdLst/>
            <a:ahLst/>
            <a:rect l="l" t="t" r="r" b="b"/>
            <a:pathLst>
              <a:path w="673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2880" y="31258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828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o e Comiss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380988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90920" y="476640"/>
            <a:ext cx="5267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tores no Processo Regu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26280" y="31258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as e Invest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3429000"/>
            <a:ext cx="1144440" cy="1440"/>
          </a:xfrm>
          <a:custGeom>
            <a:avLst/>
            <a:gdLst/>
            <a:ahLst/>
            <a:rect l="l" t="t" r="r" b="b"/>
            <a:pathLst>
              <a:path w="721" h="1">
                <a:moveTo>
                  <a:pt x="0" y="0"/>
                </a:move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262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3809880"/>
            <a:ext cx="1144440" cy="1297080"/>
          </a:xfrm>
          <a:custGeom>
            <a:avLst/>
            <a:gdLst/>
            <a:ahLst/>
            <a:rect l="l" t="t" r="r" b="b"/>
            <a:pathLst>
              <a:path w="721" h="817">
                <a:moveTo>
                  <a:pt x="0" y="0"/>
                </a:moveTo>
                <a:lnTo>
                  <a:pt x="720" y="8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429000"/>
            <a:ext cx="1068480" cy="1440"/>
          </a:xfrm>
          <a:custGeom>
            <a:avLst/>
            <a:gdLst/>
            <a:ahLst/>
            <a:rect l="l" t="t" r="r" b="b"/>
            <a:pathLst>
              <a:path w="673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82880" y="31258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828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o e Comiss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380988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2666880"/>
            <a:ext cx="144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51120" y="2666880"/>
            <a:ext cx="37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2666880"/>
            <a:ext cx="180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432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5562720"/>
            <a:ext cx="1906560" cy="1440"/>
          </a:xfrm>
          <a:custGeom>
            <a:avLst/>
            <a:gdLst/>
            <a:ahLst/>
            <a:rect l="l" t="t" r="r" b="b"/>
            <a:pathLst>
              <a:path w="1201" h="1">
                <a:moveTo>
                  <a:pt x="120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0" y="0"/>
                </a:moveTo>
                <a:lnTo>
                  <a:pt x="43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6272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0"/>
                </a:moveTo>
                <a:lnTo>
                  <a:pt x="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3581280"/>
            <a:ext cx="3201840" cy="1525680"/>
          </a:xfrm>
          <a:custGeom>
            <a:avLst/>
            <a:gdLst/>
            <a:ahLst/>
            <a:rect l="l" t="t" r="r" b="b"/>
            <a:pathLst>
              <a:path w="2017" h="961">
                <a:moveTo>
                  <a:pt x="2016" y="0"/>
                </a:moveTo>
                <a:lnTo>
                  <a:pt x="0" y="9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3657600"/>
            <a:ext cx="3201840" cy="1144440"/>
          </a:xfrm>
          <a:custGeom>
            <a:avLst/>
            <a:gdLst/>
            <a:ahLst/>
            <a:rect l="l" t="t" r="r" b="b"/>
            <a:pathLst>
              <a:path w="2017" h="721">
                <a:moveTo>
                  <a:pt x="2016" y="72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90920" y="549720"/>
            <a:ext cx="5267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tores no Processo Regu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26280" y="31258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as e Invest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3429000"/>
            <a:ext cx="1144440" cy="1440"/>
          </a:xfrm>
          <a:custGeom>
            <a:avLst/>
            <a:gdLst/>
            <a:ahLst/>
            <a:rect l="l" t="t" r="r" b="b"/>
            <a:pathLst>
              <a:path w="721" h="1">
                <a:moveTo>
                  <a:pt x="0" y="0"/>
                </a:move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262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3809880"/>
            <a:ext cx="1144440" cy="1297080"/>
          </a:xfrm>
          <a:custGeom>
            <a:avLst/>
            <a:gdLst/>
            <a:ahLst/>
            <a:rect l="l" t="t" r="r" b="b"/>
            <a:pathLst>
              <a:path w="721" h="817">
                <a:moveTo>
                  <a:pt x="0" y="0"/>
                </a:moveTo>
                <a:lnTo>
                  <a:pt x="720" y="8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3429000"/>
            <a:ext cx="1068480" cy="1440"/>
          </a:xfrm>
          <a:custGeom>
            <a:avLst/>
            <a:gdLst/>
            <a:ahLst/>
            <a:rect l="l" t="t" r="r" b="b"/>
            <a:pathLst>
              <a:path w="673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82880" y="31258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828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o e Comiss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380988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2666880"/>
            <a:ext cx="144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51120" y="2666880"/>
            <a:ext cx="37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2666880"/>
            <a:ext cx="180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432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5562720"/>
            <a:ext cx="1906560" cy="1440"/>
          </a:xfrm>
          <a:custGeom>
            <a:avLst/>
            <a:gdLst/>
            <a:ahLst/>
            <a:rect l="l" t="t" r="r" b="b"/>
            <a:pathLst>
              <a:path w="1201" h="1">
                <a:moveTo>
                  <a:pt x="120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0" y="0"/>
                </a:moveTo>
                <a:lnTo>
                  <a:pt x="43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0"/>
                </a:moveTo>
                <a:lnTo>
                  <a:pt x="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3581280"/>
            <a:ext cx="3201840" cy="1525680"/>
          </a:xfrm>
          <a:custGeom>
            <a:avLst/>
            <a:gdLst/>
            <a:ahLst/>
            <a:rect l="l" t="t" r="r" b="b"/>
            <a:pathLst>
              <a:path w="2017" h="961">
                <a:moveTo>
                  <a:pt x="2016" y="0"/>
                </a:moveTo>
                <a:lnTo>
                  <a:pt x="0" y="9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3657600"/>
            <a:ext cx="3201840" cy="1144440"/>
          </a:xfrm>
          <a:custGeom>
            <a:avLst/>
            <a:gdLst/>
            <a:ahLst/>
            <a:rect l="l" t="t" r="r" b="b"/>
            <a:pathLst>
              <a:path w="2017" h="721">
                <a:moveTo>
                  <a:pt x="2016" y="72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6360" y="3963960"/>
            <a:ext cx="92880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i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379520" y="3500280"/>
            <a:ext cx="519120" cy="696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03200" y="4427640"/>
            <a:ext cx="595440" cy="671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690920" y="405000"/>
            <a:ext cx="5267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tores no Processo Regu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26280" y="31258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as e Invest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05520" y="3429000"/>
            <a:ext cx="1144440" cy="1440"/>
          </a:xfrm>
          <a:custGeom>
            <a:avLst/>
            <a:gdLst/>
            <a:ahLst/>
            <a:rect l="l" t="t" r="r" b="b"/>
            <a:pathLst>
              <a:path w="721" h="1">
                <a:moveTo>
                  <a:pt x="0" y="0"/>
                </a:move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262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3809880"/>
            <a:ext cx="1144440" cy="1297080"/>
          </a:xfrm>
          <a:custGeom>
            <a:avLst/>
            <a:gdLst/>
            <a:ahLst/>
            <a:rect l="l" t="t" r="r" b="b"/>
            <a:pathLst>
              <a:path w="721" h="817">
                <a:moveTo>
                  <a:pt x="0" y="0"/>
                </a:moveTo>
                <a:lnTo>
                  <a:pt x="720" y="8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3429000"/>
            <a:ext cx="1068480" cy="1440"/>
          </a:xfrm>
          <a:custGeom>
            <a:avLst/>
            <a:gdLst/>
            <a:ahLst/>
            <a:rect l="l" t="t" r="r" b="b"/>
            <a:pathLst>
              <a:path w="673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82880" y="31258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828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o e Comiss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380988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2666880"/>
            <a:ext cx="144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51120" y="2666880"/>
            <a:ext cx="37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2666880"/>
            <a:ext cx="180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432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5562720"/>
            <a:ext cx="1906560" cy="1440"/>
          </a:xfrm>
          <a:custGeom>
            <a:avLst/>
            <a:gdLst/>
            <a:ahLst/>
            <a:rect l="l" t="t" r="r" b="b"/>
            <a:pathLst>
              <a:path w="1201" h="1">
                <a:moveTo>
                  <a:pt x="120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6272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0" y="0"/>
                </a:moveTo>
                <a:lnTo>
                  <a:pt x="43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0"/>
                </a:moveTo>
                <a:lnTo>
                  <a:pt x="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3581280"/>
            <a:ext cx="3201840" cy="1525680"/>
          </a:xfrm>
          <a:custGeom>
            <a:avLst/>
            <a:gdLst/>
            <a:ahLst/>
            <a:rect l="l" t="t" r="r" b="b"/>
            <a:pathLst>
              <a:path w="2017" h="961">
                <a:moveTo>
                  <a:pt x="2016" y="0"/>
                </a:moveTo>
                <a:lnTo>
                  <a:pt x="0" y="9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3657600"/>
            <a:ext cx="3201840" cy="1144440"/>
          </a:xfrm>
          <a:custGeom>
            <a:avLst/>
            <a:gdLst/>
            <a:ahLst/>
            <a:rect l="l" t="t" r="r" b="b"/>
            <a:pathLst>
              <a:path w="2017" h="721">
                <a:moveTo>
                  <a:pt x="2016" y="72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6360" y="3963960"/>
            <a:ext cx="92880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i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379520" y="3500280"/>
            <a:ext cx="519120" cy="696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03200" y="4427640"/>
            <a:ext cx="595440" cy="671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82880" y="15256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ocracia  e outras Agê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62320" y="2209680"/>
            <a:ext cx="1440" cy="839880"/>
          </a:xfrm>
          <a:custGeom>
            <a:avLst/>
            <a:gdLst/>
            <a:ahLst/>
            <a:rect l="l" t="t" r="r" b="b"/>
            <a:pathLst>
              <a:path w="1" h="529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71800" y="1752480"/>
            <a:ext cx="1144440" cy="1373400"/>
          </a:xfrm>
          <a:custGeom>
            <a:avLst/>
            <a:gdLst/>
            <a:ahLst/>
            <a:rect l="l" t="t" r="r" b="b"/>
            <a:pathLst>
              <a:path w="721" h="865">
                <a:moveTo>
                  <a:pt x="0" y="0"/>
                </a:moveTo>
                <a:lnTo>
                  <a:pt x="72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09680"/>
            <a:ext cx="3240" cy="611280"/>
          </a:xfrm>
          <a:custGeom>
            <a:avLst/>
            <a:gdLst/>
            <a:ahLst/>
            <a:rect l="l" t="t" r="r" b="b"/>
            <a:pathLst>
              <a:path w="2" h="385">
                <a:moveTo>
                  <a:pt x="0" y="384"/>
                </a:move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84440" y="2819520"/>
            <a:ext cx="36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2819520"/>
            <a:ext cx="1440" cy="1373040"/>
          </a:xfrm>
          <a:custGeom>
            <a:avLst/>
            <a:gdLst/>
            <a:ahLst/>
            <a:rect l="l" t="t" r="r" b="b"/>
            <a:pathLst>
              <a:path w="1" h="865">
                <a:moveTo>
                  <a:pt x="0" y="0"/>
                </a:moveTo>
                <a:lnTo>
                  <a:pt x="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191120"/>
            <a:ext cx="1440" cy="534960"/>
          </a:xfrm>
          <a:custGeom>
            <a:avLst/>
            <a:gdLst/>
            <a:ahLst/>
            <a:rect l="l" t="t" r="r" b="b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671480" y="4191120"/>
            <a:ext cx="39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90920" y="405000"/>
            <a:ext cx="5267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tores no Processo Regu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26280" y="31258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as e Invest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05520" y="3429000"/>
            <a:ext cx="1144440" cy="1440"/>
          </a:xfrm>
          <a:custGeom>
            <a:avLst/>
            <a:gdLst/>
            <a:ahLst/>
            <a:rect l="l" t="t" r="r" b="b"/>
            <a:pathLst>
              <a:path w="721" h="1">
                <a:moveTo>
                  <a:pt x="0" y="0"/>
                </a:move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262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816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3809880"/>
            <a:ext cx="1144440" cy="1297080"/>
          </a:xfrm>
          <a:custGeom>
            <a:avLst/>
            <a:gdLst/>
            <a:ahLst/>
            <a:rect l="l" t="t" r="r" b="b"/>
            <a:pathLst>
              <a:path w="721" h="817">
                <a:moveTo>
                  <a:pt x="0" y="0"/>
                </a:moveTo>
                <a:lnTo>
                  <a:pt x="720" y="8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3429000"/>
            <a:ext cx="1068480" cy="1440"/>
          </a:xfrm>
          <a:custGeom>
            <a:avLst/>
            <a:gdLst/>
            <a:ahLst/>
            <a:rect l="l" t="t" r="r" b="b"/>
            <a:pathLst>
              <a:path w="673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82880" y="31258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828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o e Comiss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380988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43200" y="2666880"/>
            <a:ext cx="144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51120" y="2666880"/>
            <a:ext cx="37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2666880"/>
            <a:ext cx="180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432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5562720"/>
            <a:ext cx="1906560" cy="1440"/>
          </a:xfrm>
          <a:custGeom>
            <a:avLst/>
            <a:gdLst/>
            <a:ahLst/>
            <a:rect l="l" t="t" r="r" b="b"/>
            <a:pathLst>
              <a:path w="1201" h="1">
                <a:moveTo>
                  <a:pt x="120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5760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0" y="0"/>
                </a:moveTo>
                <a:lnTo>
                  <a:pt x="43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0"/>
                </a:moveTo>
                <a:lnTo>
                  <a:pt x="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3581280"/>
            <a:ext cx="3201840" cy="1525680"/>
          </a:xfrm>
          <a:custGeom>
            <a:avLst/>
            <a:gdLst/>
            <a:ahLst/>
            <a:rect l="l" t="t" r="r" b="b"/>
            <a:pathLst>
              <a:path w="2017" h="961">
                <a:moveTo>
                  <a:pt x="2016" y="0"/>
                </a:moveTo>
                <a:lnTo>
                  <a:pt x="0" y="9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3657600"/>
            <a:ext cx="3201840" cy="1144440"/>
          </a:xfrm>
          <a:custGeom>
            <a:avLst/>
            <a:gdLst/>
            <a:ahLst/>
            <a:rect l="l" t="t" r="r" b="b"/>
            <a:pathLst>
              <a:path w="2017" h="721">
                <a:moveTo>
                  <a:pt x="2016" y="72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6360" y="3963960"/>
            <a:ext cx="92880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i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379520" y="3500280"/>
            <a:ext cx="519120" cy="696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03200" y="4427640"/>
            <a:ext cx="595440" cy="671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82880" y="15256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ocracia  e outras Agê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2209680"/>
            <a:ext cx="1440" cy="839880"/>
          </a:xfrm>
          <a:custGeom>
            <a:avLst/>
            <a:gdLst/>
            <a:ahLst/>
            <a:rect l="l" t="t" r="r" b="b"/>
            <a:pathLst>
              <a:path w="1" h="529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971800" y="1752480"/>
            <a:ext cx="1144440" cy="1373400"/>
          </a:xfrm>
          <a:custGeom>
            <a:avLst/>
            <a:gdLst/>
            <a:ahLst/>
            <a:rect l="l" t="t" r="r" b="b"/>
            <a:pathLst>
              <a:path w="721" h="865">
                <a:moveTo>
                  <a:pt x="0" y="0"/>
                </a:moveTo>
                <a:lnTo>
                  <a:pt x="72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2209680"/>
            <a:ext cx="3240" cy="611280"/>
          </a:xfrm>
          <a:custGeom>
            <a:avLst/>
            <a:gdLst/>
            <a:ahLst/>
            <a:rect l="l" t="t" r="r" b="b"/>
            <a:pathLst>
              <a:path w="2" h="385">
                <a:moveTo>
                  <a:pt x="0" y="384"/>
                </a:move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84440" y="2819520"/>
            <a:ext cx="36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2819520"/>
            <a:ext cx="1440" cy="1373040"/>
          </a:xfrm>
          <a:custGeom>
            <a:avLst/>
            <a:gdLst/>
            <a:ahLst/>
            <a:rect l="l" t="t" r="r" b="b"/>
            <a:pathLst>
              <a:path w="1" h="865">
                <a:moveTo>
                  <a:pt x="0" y="0"/>
                </a:moveTo>
                <a:lnTo>
                  <a:pt x="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4191120"/>
            <a:ext cx="1440" cy="534960"/>
          </a:xfrm>
          <a:custGeom>
            <a:avLst/>
            <a:gdLst/>
            <a:ahLst/>
            <a:rect l="l" t="t" r="r" b="b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671480" y="4191120"/>
            <a:ext cx="39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116240" y="15256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1828800"/>
            <a:ext cx="992160" cy="1220760"/>
          </a:xfrm>
          <a:custGeom>
            <a:avLst/>
            <a:gdLst/>
            <a:ahLst/>
            <a:rect l="l" t="t" r="r" b="b"/>
            <a:pathLst>
              <a:path w="625" h="769">
                <a:moveTo>
                  <a:pt x="0" y="768"/>
                </a:moveTo>
                <a:lnTo>
                  <a:pt x="6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209680"/>
            <a:ext cx="1440" cy="839880"/>
          </a:xfrm>
          <a:custGeom>
            <a:avLst/>
            <a:gdLst/>
            <a:ahLst/>
            <a:rect l="l" t="t" r="r" b="b"/>
            <a:pathLst>
              <a:path w="1" h="529">
                <a:moveTo>
                  <a:pt x="0" y="0"/>
                </a:moveTo>
                <a:lnTo>
                  <a:pt x="0" y="5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1981080"/>
            <a:ext cx="1144440" cy="1144800"/>
          </a:xfrm>
          <a:custGeom>
            <a:avLst/>
            <a:gdLst/>
            <a:ahLst/>
            <a:rect l="l" t="t" r="r" b="b"/>
            <a:pathLst>
              <a:path w="721" h="721">
                <a:moveTo>
                  <a:pt x="0" y="0"/>
                </a:moveTo>
                <a:lnTo>
                  <a:pt x="720" y="7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19520" y="2286000"/>
            <a:ext cx="1296720" cy="2363760"/>
          </a:xfrm>
          <a:custGeom>
            <a:avLst/>
            <a:gdLst/>
            <a:ahLst/>
            <a:rect l="l" t="t" r="r" b="b"/>
            <a:pathLst>
              <a:path w="817" h="1489">
                <a:moveTo>
                  <a:pt x="0" y="1488"/>
                </a:moveTo>
                <a:lnTo>
                  <a:pt x="8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52880" y="2209680"/>
            <a:ext cx="1525680" cy="2440080"/>
          </a:xfrm>
          <a:custGeom>
            <a:avLst/>
            <a:gdLst/>
            <a:ahLst/>
            <a:rect l="l" t="t" r="r" b="b"/>
            <a:pathLst>
              <a:path w="961" h="1537">
                <a:moveTo>
                  <a:pt x="0" y="0"/>
                </a:moveTo>
                <a:lnTo>
                  <a:pt x="960" y="15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 do 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zir conceitos básicos sobre interação estratégica racional na análise de atores e instituições polí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escolha de como agir ou de qual estratégia seguir levar-se-á em consideração as escolhas dos outros jogadores. Entretanto, ao pensar na estratégia dos outros ‘jogadores’ é importante também reconhecer que eles também estão pensando na sua, bem como tentando levar em consideração como você pensa que eles irão ag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ender a utilizar analiticamente as ferramentas do método r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 isso não quero dizer que sempre as pessoas se comportam racionalmente; mas também não é verdade que sempre elas se comportam irracionalmente. Mesmo quando não estamos antecipando possíveis movimentos, isso também não quer dizer que estamos agindo de forma irr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690920" y="333720"/>
            <a:ext cx="5267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tores no Processo Regu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26280" y="31258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as e Invest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05520" y="3429000"/>
            <a:ext cx="1144440" cy="1440"/>
          </a:xfrm>
          <a:custGeom>
            <a:avLst/>
            <a:gdLst/>
            <a:ahLst/>
            <a:rect l="l" t="t" r="r" b="b"/>
            <a:pathLst>
              <a:path w="721" h="1">
                <a:moveTo>
                  <a:pt x="0" y="0"/>
                </a:move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262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05520" y="3809880"/>
            <a:ext cx="1144440" cy="1297080"/>
          </a:xfrm>
          <a:custGeom>
            <a:avLst/>
            <a:gdLst/>
            <a:ahLst/>
            <a:rect l="l" t="t" r="r" b="b"/>
            <a:pathLst>
              <a:path w="721" h="817">
                <a:moveTo>
                  <a:pt x="0" y="0"/>
                </a:moveTo>
                <a:lnTo>
                  <a:pt x="720" y="8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3429000"/>
            <a:ext cx="1068480" cy="1440"/>
          </a:xfrm>
          <a:custGeom>
            <a:avLst/>
            <a:gdLst/>
            <a:ahLst/>
            <a:rect l="l" t="t" r="r" b="b"/>
            <a:pathLst>
              <a:path w="673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82880" y="31258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828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o e Comiss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380988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2666880"/>
            <a:ext cx="144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51120" y="2666880"/>
            <a:ext cx="37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2666880"/>
            <a:ext cx="180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432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5562720"/>
            <a:ext cx="1906560" cy="1440"/>
          </a:xfrm>
          <a:custGeom>
            <a:avLst/>
            <a:gdLst/>
            <a:ahLst/>
            <a:rect l="l" t="t" r="r" b="b"/>
            <a:pathLst>
              <a:path w="1201" h="1">
                <a:moveTo>
                  <a:pt x="120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6272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0" y="0"/>
                </a:moveTo>
                <a:lnTo>
                  <a:pt x="43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0"/>
                </a:moveTo>
                <a:lnTo>
                  <a:pt x="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3581280"/>
            <a:ext cx="3201840" cy="1525680"/>
          </a:xfrm>
          <a:custGeom>
            <a:avLst/>
            <a:gdLst/>
            <a:ahLst/>
            <a:rect l="l" t="t" r="r" b="b"/>
            <a:pathLst>
              <a:path w="2017" h="961">
                <a:moveTo>
                  <a:pt x="2016" y="0"/>
                </a:moveTo>
                <a:lnTo>
                  <a:pt x="0" y="9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48120" y="3657600"/>
            <a:ext cx="3201840" cy="1144440"/>
          </a:xfrm>
          <a:custGeom>
            <a:avLst/>
            <a:gdLst/>
            <a:ahLst/>
            <a:rect l="l" t="t" r="r" b="b"/>
            <a:pathLst>
              <a:path w="2017" h="721">
                <a:moveTo>
                  <a:pt x="2016" y="72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6360" y="3963960"/>
            <a:ext cx="92880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i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1379520" y="3500280"/>
            <a:ext cx="519120" cy="696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03200" y="4427640"/>
            <a:ext cx="595440" cy="671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82880" y="15256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ocracia  e outras Agê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62320" y="2209680"/>
            <a:ext cx="1440" cy="839880"/>
          </a:xfrm>
          <a:custGeom>
            <a:avLst/>
            <a:gdLst/>
            <a:ahLst/>
            <a:rect l="l" t="t" r="r" b="b"/>
            <a:pathLst>
              <a:path w="1" h="529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71800" y="1752480"/>
            <a:ext cx="1144440" cy="1373400"/>
          </a:xfrm>
          <a:custGeom>
            <a:avLst/>
            <a:gdLst/>
            <a:ahLst/>
            <a:rect l="l" t="t" r="r" b="b"/>
            <a:pathLst>
              <a:path w="721" h="865">
                <a:moveTo>
                  <a:pt x="0" y="0"/>
                </a:moveTo>
                <a:lnTo>
                  <a:pt x="72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057400" y="2209680"/>
            <a:ext cx="3240" cy="611280"/>
          </a:xfrm>
          <a:custGeom>
            <a:avLst/>
            <a:gdLst/>
            <a:ahLst/>
            <a:rect l="l" t="t" r="r" b="b"/>
            <a:pathLst>
              <a:path w="2" h="385">
                <a:moveTo>
                  <a:pt x="0" y="384"/>
                </a:move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84440" y="2819520"/>
            <a:ext cx="36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2819520"/>
            <a:ext cx="1440" cy="1373040"/>
          </a:xfrm>
          <a:custGeom>
            <a:avLst/>
            <a:gdLst/>
            <a:ahLst/>
            <a:rect l="l" t="t" r="r" b="b"/>
            <a:pathLst>
              <a:path w="1" h="865">
                <a:moveTo>
                  <a:pt x="0" y="0"/>
                </a:moveTo>
                <a:lnTo>
                  <a:pt x="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057400" y="4191120"/>
            <a:ext cx="1440" cy="534960"/>
          </a:xfrm>
          <a:custGeom>
            <a:avLst/>
            <a:gdLst/>
            <a:ahLst/>
            <a:rect l="l" t="t" r="r" b="b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1480" y="4191120"/>
            <a:ext cx="39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16240" y="15256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1828800"/>
            <a:ext cx="992160" cy="1220760"/>
          </a:xfrm>
          <a:custGeom>
            <a:avLst/>
            <a:gdLst/>
            <a:ahLst/>
            <a:rect l="l" t="t" r="r" b="b"/>
            <a:pathLst>
              <a:path w="625" h="769">
                <a:moveTo>
                  <a:pt x="0" y="768"/>
                </a:moveTo>
                <a:lnTo>
                  <a:pt x="6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0" y="2209680"/>
            <a:ext cx="1440" cy="839880"/>
          </a:xfrm>
          <a:custGeom>
            <a:avLst/>
            <a:gdLst/>
            <a:ahLst/>
            <a:rect l="l" t="t" r="r" b="b"/>
            <a:pathLst>
              <a:path w="1" h="529">
                <a:moveTo>
                  <a:pt x="0" y="0"/>
                </a:moveTo>
                <a:lnTo>
                  <a:pt x="0" y="5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05520" y="1981080"/>
            <a:ext cx="1144440" cy="1144800"/>
          </a:xfrm>
          <a:custGeom>
            <a:avLst/>
            <a:gdLst/>
            <a:ahLst/>
            <a:rect l="l" t="t" r="r" b="b"/>
            <a:pathLst>
              <a:path w="721" h="721">
                <a:moveTo>
                  <a:pt x="0" y="0"/>
                </a:moveTo>
                <a:lnTo>
                  <a:pt x="720" y="7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19520" y="2286000"/>
            <a:ext cx="1296720" cy="2363760"/>
          </a:xfrm>
          <a:custGeom>
            <a:avLst/>
            <a:gdLst/>
            <a:ahLst/>
            <a:rect l="l" t="t" r="r" b="b"/>
            <a:pathLst>
              <a:path w="817" h="1489">
                <a:moveTo>
                  <a:pt x="0" y="1488"/>
                </a:moveTo>
                <a:lnTo>
                  <a:pt x="8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2209680"/>
            <a:ext cx="1525680" cy="2440080"/>
          </a:xfrm>
          <a:custGeom>
            <a:avLst/>
            <a:gdLst/>
            <a:ahLst/>
            <a:rect l="l" t="t" r="r" b="b"/>
            <a:pathLst>
              <a:path w="961" h="1537">
                <a:moveTo>
                  <a:pt x="0" y="0"/>
                </a:moveTo>
                <a:lnTo>
                  <a:pt x="960" y="15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26280" y="15256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rema C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71800" y="1752480"/>
            <a:ext cx="3201840" cy="1449360"/>
          </a:xfrm>
          <a:custGeom>
            <a:avLst/>
            <a:gdLst/>
            <a:ahLst/>
            <a:rect l="l" t="t" r="r" b="b"/>
            <a:pathLst>
              <a:path w="2017" h="913">
                <a:moveTo>
                  <a:pt x="0" y="912"/>
                </a:move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81480" y="182880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34120" y="2286000"/>
            <a:ext cx="992160" cy="1906560"/>
          </a:xfrm>
          <a:custGeom>
            <a:avLst/>
            <a:gdLst/>
            <a:ahLst/>
            <a:rect l="l" t="t" r="r" b="b"/>
            <a:pathLst>
              <a:path w="625" h="1201">
                <a:moveTo>
                  <a:pt x="0" y="1200"/>
                </a:moveTo>
                <a:lnTo>
                  <a:pt x="6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424320" y="4199040"/>
            <a:ext cx="1915920" cy="82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16240" y="31258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ência Regulad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6280" y="15256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rema C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82880" y="31258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16240" y="1525680"/>
            <a:ext cx="91152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82880" y="1525680"/>
            <a:ext cx="928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ocracia  e outras Agê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326280" y="3125880"/>
            <a:ext cx="91116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as e Invest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262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i-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16240" y="4802040"/>
            <a:ext cx="91152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ros Grupos de Intere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82880" y="4802040"/>
            <a:ext cx="911160" cy="63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o e Comissõ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71800" y="3429000"/>
            <a:ext cx="1068480" cy="1440"/>
          </a:xfrm>
          <a:custGeom>
            <a:avLst/>
            <a:gdLst/>
            <a:ahLst/>
            <a:rect l="l" t="t" r="r" b="b"/>
            <a:pathLst>
              <a:path w="673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380988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0" y="3809880"/>
            <a:ext cx="144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576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1752480"/>
            <a:ext cx="1144440" cy="1373400"/>
          </a:xfrm>
          <a:custGeom>
            <a:avLst/>
            <a:gdLst/>
            <a:ahLst/>
            <a:rect l="l" t="t" r="r" b="b"/>
            <a:pathLst>
              <a:path w="721" h="865">
                <a:moveTo>
                  <a:pt x="0" y="0"/>
                </a:moveTo>
                <a:lnTo>
                  <a:pt x="72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81680" y="3809880"/>
            <a:ext cx="1800" cy="916200"/>
          </a:xfrm>
          <a:custGeom>
            <a:avLst/>
            <a:gdLst/>
            <a:ahLst/>
            <a:rect l="l" t="t" r="r" b="b"/>
            <a:pathLst>
              <a:path w="1" h="577">
                <a:moveTo>
                  <a:pt x="0" y="0"/>
                </a:move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429000"/>
            <a:ext cx="1144440" cy="1440"/>
          </a:xfrm>
          <a:custGeom>
            <a:avLst/>
            <a:gdLst/>
            <a:ahLst/>
            <a:rect l="l" t="t" r="r" b="b"/>
            <a:pathLst>
              <a:path w="721" h="1">
                <a:moveTo>
                  <a:pt x="0" y="0"/>
                </a:moveTo>
                <a:lnTo>
                  <a:pt x="7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81480" y="1828800"/>
            <a:ext cx="1068480" cy="1297080"/>
          </a:xfrm>
          <a:custGeom>
            <a:avLst/>
            <a:gdLst/>
            <a:ahLst/>
            <a:rect l="l" t="t" r="r" b="b"/>
            <a:pathLst>
              <a:path w="673" h="817">
                <a:moveTo>
                  <a:pt x="0" y="816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2209680"/>
            <a:ext cx="1440" cy="839880"/>
          </a:xfrm>
          <a:custGeom>
            <a:avLst/>
            <a:gdLst/>
            <a:ahLst/>
            <a:rect l="l" t="t" r="r" b="b"/>
            <a:pathLst>
              <a:path w="1" h="529">
                <a:moveTo>
                  <a:pt x="0" y="0"/>
                </a:moveTo>
                <a:lnTo>
                  <a:pt x="0" y="5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09880"/>
            <a:ext cx="1144440" cy="1297080"/>
          </a:xfrm>
          <a:custGeom>
            <a:avLst/>
            <a:gdLst/>
            <a:ahLst/>
            <a:rect l="l" t="t" r="r" b="b"/>
            <a:pathLst>
              <a:path w="721" h="817">
                <a:moveTo>
                  <a:pt x="0" y="0"/>
                </a:moveTo>
                <a:lnTo>
                  <a:pt x="720" y="8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3581280"/>
            <a:ext cx="3201840" cy="1525680"/>
          </a:xfrm>
          <a:custGeom>
            <a:avLst/>
            <a:gdLst/>
            <a:ahLst/>
            <a:rect l="l" t="t" r="r" b="b"/>
            <a:pathLst>
              <a:path w="2017" h="961">
                <a:moveTo>
                  <a:pt x="2016" y="0"/>
                </a:moveTo>
                <a:lnTo>
                  <a:pt x="0" y="9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0" y="0"/>
                </a:moveTo>
                <a:lnTo>
                  <a:pt x="43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6272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0"/>
                </a:moveTo>
                <a:lnTo>
                  <a:pt x="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5562720"/>
            <a:ext cx="1906560" cy="1440"/>
          </a:xfrm>
          <a:custGeom>
            <a:avLst/>
            <a:gdLst/>
            <a:ahLst/>
            <a:rect l="l" t="t" r="r" b="b"/>
            <a:pathLst>
              <a:path w="1201" h="1">
                <a:moveTo>
                  <a:pt x="1200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57600" y="5334120"/>
            <a:ext cx="1440" cy="23004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71800" y="5334120"/>
            <a:ext cx="687240" cy="1440"/>
          </a:xfrm>
          <a:custGeom>
            <a:avLst/>
            <a:gdLst/>
            <a:ahLst/>
            <a:rect l="l" t="t" r="r" b="b"/>
            <a:pathLst>
              <a:path w="433" h="1">
                <a:moveTo>
                  <a:pt x="432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00400" y="5105520"/>
            <a:ext cx="839880" cy="1440"/>
          </a:xfrm>
          <a:custGeom>
            <a:avLst/>
            <a:gdLst/>
            <a:ahLst/>
            <a:rect l="l" t="t" r="r" b="b"/>
            <a:pathLst>
              <a:path w="529" h="1">
                <a:moveTo>
                  <a:pt x="528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3657600"/>
            <a:ext cx="3201840" cy="1144440"/>
          </a:xfrm>
          <a:custGeom>
            <a:avLst/>
            <a:gdLst/>
            <a:ahLst/>
            <a:rect l="l" t="t" r="r" b="b"/>
            <a:pathLst>
              <a:path w="2017" h="721">
                <a:moveTo>
                  <a:pt x="2016" y="72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362320" y="2209680"/>
            <a:ext cx="1440" cy="839880"/>
          </a:xfrm>
          <a:custGeom>
            <a:avLst/>
            <a:gdLst/>
            <a:ahLst/>
            <a:rect l="l" t="t" r="r" b="b"/>
            <a:pathLst>
              <a:path w="1" h="529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2209680"/>
            <a:ext cx="3240" cy="611280"/>
          </a:xfrm>
          <a:custGeom>
            <a:avLst/>
            <a:gdLst/>
            <a:ahLst/>
            <a:rect l="l" t="t" r="r" b="b"/>
            <a:pathLst>
              <a:path w="2" h="385">
                <a:moveTo>
                  <a:pt x="0" y="384"/>
                </a:move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4191120"/>
            <a:ext cx="1440" cy="534960"/>
          </a:xfrm>
          <a:custGeom>
            <a:avLst/>
            <a:gdLst/>
            <a:ahLst/>
            <a:rect l="l" t="t" r="r" b="b"/>
            <a:pathLst>
              <a:path w="1" h="337">
                <a:moveTo>
                  <a:pt x="0" y="0"/>
                </a:move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76520" y="2819520"/>
            <a:ext cx="1440" cy="1373040"/>
          </a:xfrm>
          <a:custGeom>
            <a:avLst/>
            <a:gdLst/>
            <a:ahLst/>
            <a:rect l="l" t="t" r="r" b="b"/>
            <a:pathLst>
              <a:path w="1" h="865">
                <a:moveTo>
                  <a:pt x="0" y="0"/>
                </a:moveTo>
                <a:lnTo>
                  <a:pt x="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71480" y="4191120"/>
            <a:ext cx="39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84440" y="2819520"/>
            <a:ext cx="36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71800" y="1828800"/>
            <a:ext cx="992160" cy="1220760"/>
          </a:xfrm>
          <a:custGeom>
            <a:avLst/>
            <a:gdLst/>
            <a:ahLst/>
            <a:rect l="l" t="t" r="r" b="b"/>
            <a:pathLst>
              <a:path w="625" h="769">
                <a:moveTo>
                  <a:pt x="0" y="768"/>
                </a:moveTo>
                <a:lnTo>
                  <a:pt x="6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2286000"/>
            <a:ext cx="1296720" cy="2363760"/>
          </a:xfrm>
          <a:custGeom>
            <a:avLst/>
            <a:gdLst/>
            <a:ahLst/>
            <a:rect l="l" t="t" r="r" b="b"/>
            <a:pathLst>
              <a:path w="817" h="1489">
                <a:moveTo>
                  <a:pt x="0" y="1488"/>
                </a:moveTo>
                <a:lnTo>
                  <a:pt x="8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971800" y="1752480"/>
            <a:ext cx="3201840" cy="1449360"/>
          </a:xfrm>
          <a:custGeom>
            <a:avLst/>
            <a:gdLst/>
            <a:ahLst/>
            <a:rect l="l" t="t" r="r" b="b"/>
            <a:pathLst>
              <a:path w="2017" h="913">
                <a:moveTo>
                  <a:pt x="0" y="912"/>
                </a:move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34120" y="2286000"/>
            <a:ext cx="992160" cy="1906560"/>
          </a:xfrm>
          <a:custGeom>
            <a:avLst/>
            <a:gdLst/>
            <a:ahLst/>
            <a:rect l="l" t="t" r="r" b="b"/>
            <a:pathLst>
              <a:path w="625" h="1201">
                <a:moveTo>
                  <a:pt x="0" y="1200"/>
                </a:moveTo>
                <a:lnTo>
                  <a:pt x="6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424320" y="4199040"/>
            <a:ext cx="1915920" cy="82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105520" y="1981080"/>
            <a:ext cx="1144440" cy="1144800"/>
          </a:xfrm>
          <a:custGeom>
            <a:avLst/>
            <a:gdLst/>
            <a:ahLst/>
            <a:rect l="l" t="t" r="r" b="b"/>
            <a:pathLst>
              <a:path w="721" h="721">
                <a:moveTo>
                  <a:pt x="0" y="0"/>
                </a:moveTo>
                <a:lnTo>
                  <a:pt x="720" y="7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2209680"/>
            <a:ext cx="1525680" cy="2440080"/>
          </a:xfrm>
          <a:custGeom>
            <a:avLst/>
            <a:gdLst/>
            <a:ahLst/>
            <a:rect l="l" t="t" r="r" b="b"/>
            <a:pathLst>
              <a:path w="961" h="1537">
                <a:moveTo>
                  <a:pt x="0" y="0"/>
                </a:moveTo>
                <a:lnTo>
                  <a:pt x="960" y="15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743200" y="2666880"/>
            <a:ext cx="144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2666880"/>
            <a:ext cx="1800" cy="382680"/>
          </a:xfrm>
          <a:custGeom>
            <a:avLst/>
            <a:gdLst/>
            <a:ahLst/>
            <a:rect l="l" t="t" r="r" b="b"/>
            <a:pathLst>
              <a:path w="1" h="241">
                <a:moveTo>
                  <a:pt x="0" y="0"/>
                </a:move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51120" y="2666880"/>
            <a:ext cx="37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24040" y="405000"/>
            <a:ext cx="5178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Atores no Processo Regu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suas Inter-rel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5105520"/>
            <a:ext cx="1068120" cy="1440"/>
          </a:xfrm>
          <a:custGeom>
            <a:avLst/>
            <a:gdLst/>
            <a:ahLst/>
            <a:rect l="l" t="t" r="r" b="b"/>
            <a:pathLst>
              <a:path w="673" h="1">
                <a:moveTo>
                  <a:pt x="0" y="0"/>
                </a:move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81480" y="3886200"/>
            <a:ext cx="1068480" cy="1220760"/>
          </a:xfrm>
          <a:custGeom>
            <a:avLst/>
            <a:gdLst/>
            <a:ahLst/>
            <a:rect l="l" t="t" r="r" b="b"/>
            <a:pathLst>
              <a:path w="673" h="769">
                <a:moveTo>
                  <a:pt x="672" y="0"/>
                </a:moveTo>
                <a:lnTo>
                  <a:pt x="0" y="76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657600"/>
            <a:ext cx="1144440" cy="1373040"/>
          </a:xfrm>
          <a:custGeom>
            <a:avLst/>
            <a:gdLst/>
            <a:ahLst/>
            <a:rect l="l" t="t" r="r" b="b"/>
            <a:pathLst>
              <a:path w="721" h="865">
                <a:moveTo>
                  <a:pt x="0" y="0"/>
                </a:moveTo>
                <a:lnTo>
                  <a:pt x="720" y="8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6360" y="3963960"/>
            <a:ext cx="92880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i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379520" y="3500280"/>
            <a:ext cx="519120" cy="696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03200" y="4427640"/>
            <a:ext cx="595440" cy="671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Modelo Principal-Ag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modelo principal-agente é relevante para analisar qualquer relação onde existem as seguintes condi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g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uma tarefa por um agente econômico a outro. Aquele que delega é conhecido como o principal e aquele que cumpre a tarefa em troca de uma remuneração é o agente. (Os acionistas de uma companhia, os principais, delegam a um gerente geral, o agente, a tarefa de presidir e fazer funcionar a companhi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Modelo Principal-Ag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499"/>
              </a:spcBef>
              <a:buClr>
                <a:srgbClr val="00007d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ção assimétr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O agente possui certas informações sobre si mesmo e/ou sobre a tarefa que o principal não possui. Por exemplo, o agente sabe quanto esforço coloca para cumprir a tarefa. Já o principal não observa o esforço colocado e sim o resultado deste esforço. (O gerente sabe quais as escolhas que fez, quais deixou de fazer, quais as condições da companhia, dos concorrentes, etc. Os acionistas não possuem nem o tempo nem o capital humano para obter e processar todas estas informações. Eles observam não o esforço colocado pelo gerente mas sim o lucro obtido no final do mê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Modelo Principal-Ag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ção imperfeita entre o esforço colocado e o resultado do esforç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a hora de determinar a remuneração pelo cumprimento da tarefa o principal não pode usar o resultado obtido pelo agente para inferir qual o esforço colocado, pois não existe uma relação estreita entre ambos. (Ao observar um lucro alto, os acionistas não podem inferir disto que o gerente tomou todas as decisões corretas e geriu a empresa de maneira sábia, pois é possível que o gerente tenha agido de forma imprudente ou desleixada e mesmo assim obtivesse um lucro. Da mesma forma um lucro baixo pode se dar por contingências fora do controle do gerent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Modelo Principal-Ag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601"/>
              </a:spcBef>
              <a:buClr>
                <a:srgbClr val="00007d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 de monitoração al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O principal não tem como monitorar a baixo custo a performance do agente para poder observar o nível de esforço colocado.  (Mesmo que os acionistas façam reuniões mais freqüentes ou contratem auditores, o problema de informação assimétrica persist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Modelo Principal-Ag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tivos não alinh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Os objetivos do principal não coincidem inteiramente com os objetivos do agente. Se coincidirem exatamente a relação deixa de ser problemática pois então o agente estará agindo da maneira preferida pelo principal. (Os acionistas querem que o gerente aja de maneira a maximizar seu lucro sem tomar riscos desnecessários. O gerente quer maximizar sua própria renda e talvez possua também objetivos relacionados a sua carreira e seu poder na empresa. Os objetivos de ambos são somente parcialmente coincidentes pois ao perseguir seus objetivos próprios o gerente poderá estar levando a firma a um lucro menor do que o possíve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a relação principal-agente será mutuamente vantajosa se puder ser estruturada de forma a contornar os problemas inerentes a este tipo de intercâmb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tilidade do modelo principal-agente está justamente em salientar que muitas formas de relação entre agentes econômicos e políticos são estruturadas de maneira muito particular como meio de contornar os problemas de inform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Modelo Principal-Ag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 da Teoria dos Jo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udar processos decisórios intera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do um jogador pensa cuidadosamente antes de agir nos seus objetivos e preferências bem como sobre as possíveis limitações e restrições (pessoais e institucionais) e escolhe suas ações de uma maneira calculada para atingir os melhores resultados de acordo com o seu critério, nós chamamos isso de comportamento r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oria dos jogos acrescenta mais uma dimensão ao comportamento racional: interação com um outro jogador igualmente r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 seja, Teoria dos Jogos é a ciência do comportamento racional em situações interativ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a forma, o comportamento do jogador seria estratégico, pois sua decisão terá conseqüências sobre os demais jogadores, assim como as decisões dos outros terão conseqüências sobre 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Será que todos os jogos envolvem decisões estratégic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que dizer dos jogos de pura sorte, como roleta, cara ou coroa etc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em relação aos jogos de habilidade, como por exemplo uma prova de salto em distância em uma olimpíada onde cada atleta deverá, a cada tentativa, se esforçar para obter o melhor result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ção racional pressupõe interações estratégicas entre os jogadores. São estes jogos que nos interessam neste cu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ões e paradoxos abordados pela Teoria dos Jog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ria sentido pensar que um membro de uma comissão legislativa estaria realizando sua melhor estratégia votando a favor da alternativa de sua menor preferê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ia uma boa idéia decidir n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ro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e devo atacar hoje ou amanhã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a melhor opção para um jogador de Pôquer sempre apostar ao máximo mesmo diante de um jogo ruim nas suas mã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ia racional vender uma casa anunciando que o vencedor seria o que fizesse o maior lance, mas pagaria ‘apenas’ o segundo mai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to Estratégico (Regras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3645000"/>
            <a:ext cx="1944720" cy="72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 ou Rob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00360" y="3141720"/>
            <a:ext cx="719280" cy="503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4365720"/>
            <a:ext cx="93492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0880" y="3068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4160" y="46530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2565360"/>
            <a:ext cx="2158920" cy="719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 ou ningu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4653000"/>
            <a:ext cx="216036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o ou ningu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867280" y="2565360"/>
            <a:ext cx="1009800" cy="216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141720"/>
            <a:ext cx="1081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084720" y="4365720"/>
            <a:ext cx="1079640" cy="503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5157720"/>
            <a:ext cx="115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24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6000" y="3789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ngu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8036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to Estratégico (Preferências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nan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es da Teoria dos Jog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a racionalidade falh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equivoc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r informações que apenas confirmem nossas expectativas de su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wishful thin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Ex. Apaixonados que só buscam apenas a virtude dos seus parcei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ir sem pensar (emocionalm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ir sem buscar melhores alternativas (tradi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ir baseado em valores (imperativo ético, religioso ou polít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tituições mal desenhadas que induzem ao erro (ausência de mecanismos de incentivo ao desempen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onde vem a Teoria dos Jog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i criada por Von Neumann e Morgenstern com o livro clássico “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The Theory of Games and Economic Behavi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”, publicado em 194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e livro criou muita repercussão bem como muita frustração, polis apenas analisava os jogos de “soma-zero” onde os interesses dos jogadores são diametralmente opostos. Ou seja, não se aplicava a outras situações e interações. Na realidade este foi o primeiro esforço de um longo percurs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ohn Nash, John Harsanyi e Reinhard Selten a partir de 1950 desenvolveram as ferramentas analíticas para a aplicação em ouros tipos de interações (Eles ganharam o prêmio Nobel em 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quilíbrio de Nash é aquele que resulta se cada jogador adotar a estratégia que é a melhor resposta às estratégias dos demais jogadores, Por isso, não se restringia a apenas jogos de soma-zero. Foi a partir desta noção de equilíbrio de Nash que foi possível demonstrar que nem sempre a escolha racional (a melhor em relação as estratégias dos demais jogadores) pode levar ao melhor resultado para to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Harsanyi posteriormente desenvolveu o conceito de informação assimétrica que produzia incerteza para os agentes decorrentes desta assimetria. Antes os modelos assumiam a informação comple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lten refinou a noção de equilíbrio que ficou conhecido como “equilíbrio perfeito em sub-jogos”, ao afirmar que para uma estratégia estar em equilíbrio tem que ser ótima considerando todos os desdobramentos do jogo. A partir desta restrição do equilibro de Nash pode-se identificar  quais compromissos e ameaças são críve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14:22:48Z</dcterms:created>
  <dc:creator>Carlos Pereira</dc:creator>
  <dc:description/>
  <dc:language>en-US</dc:language>
  <cp:lastModifiedBy>Carlos Pereira</cp:lastModifiedBy>
  <dcterms:modified xsi:type="dcterms:W3CDTF">2004-08-04T15:26:29Z</dcterms:modified>
  <cp:revision>15</cp:revision>
  <dc:subject/>
  <dc:title>Escolha Social, Estratégia e Racionalidade:  Uma Introdução à Teoria dos Jogos na Polític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37090622</vt:r8>
  </property>
  <property fmtid="{D5CDD505-2E9C-101B-9397-08002B2CF9AE}" pid="3" name="_AuthorEmail">
    <vt:lpwstr>capereira@usp.br</vt:lpwstr>
  </property>
  <property fmtid="{D5CDD505-2E9C-101B-9397-08002B2CF9AE}" pid="4" name="_AuthorEmailDisplayName">
    <vt:lpwstr>Carlos Pereira</vt:lpwstr>
  </property>
  <property fmtid="{D5CDD505-2E9C-101B-9397-08002B2CF9AE}" pid="5" name="_EmailSubject">
    <vt:lpwstr>Curso Teoria dos Jogos</vt:lpwstr>
  </property>
</Properties>
</file>